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B8D1B5-FA49-4E97-B635-4A5BD08A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3DF3C3-E80E-4690-8450-82226A8AAA63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6621F8-2597-4CD1-B044-1F12D6B0B142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66E887-3513-4BBE-9090-684E5FEE4ED7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BD2430-E8F0-4EF7-A03C-8AE3F73EF3A1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852560" y="380880"/>
            <a:ext cx="3252960" cy="2440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03668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se procedures fairly quickly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n exercise to lear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ant them to be able to understand the form and what it s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APPROPRIATE FOR THE 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rust a NYT times article from a personal page as much as one from nytimes.c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py of Jackie Onassis’s will from a personal page as much as one from the California Bar Assn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personal page would be: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aol.com/~j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loosely paralleled by the sequence of the form in the next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B40CFD-8682-4E81-B850-5A1FBD812203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5A3A27-63C2-4C80-B7F8-CA741695E50F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29F3C2-7965-49ED-9159-7D1BB4AB3075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5E2D4A-8A90-43B4-BCB5-F0575E6FC696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6091AA-1794-4988-B7CB-8BD357CC9C65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C14A6B-C395-49B8-B6F9-78B3302C10D6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19"/>
          <p:cNvSpPr/>
          <p:nvPr/>
        </p:nvSpPr>
        <p:spPr>
          <a:xfrm rot="5400000">
            <a:off x="7980480" y="386640"/>
            <a:ext cx="13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3" name="WordArt 20"/>
          <p:cNvSpPr txBox="1"/>
          <p:nvPr/>
        </p:nvSpPr>
        <p:spPr>
          <a:xfrm rot="4980000">
            <a:off x="8121240" y="1771560"/>
            <a:ext cx="115272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190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latin typeface="Garamond"/>
              </a:rPr>
              <a:t>MAX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6617520" y="-5112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2400" spc="-1" strike="noStrike">
              <a:solidFill>
                <a:srgbClr val="ffcc00"/>
              </a:solidFill>
              <a:latin typeface="Clarendon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3"/>
          <p:cNvSpPr/>
          <p:nvPr/>
        </p:nvSpPr>
        <p:spPr>
          <a:xfrm>
            <a:off x="3478320" y="2184840"/>
            <a:ext cx="193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42" name="WordArt 14"/>
          <p:cNvSpPr txBox="1"/>
          <p:nvPr/>
        </p:nvSpPr>
        <p:spPr>
          <a:xfrm rot="21180000">
            <a:off x="5384520" y="1848960"/>
            <a:ext cx="26161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266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MAX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747720" y="1027080"/>
            <a:ext cx="421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5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54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hn Kupersmi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kupersm [at] library.berkeley.ed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“Know Your Library” Worksho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eaching Library, University of California, Berkele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pring 2009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33960" y="75960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G Times"/>
              </a:rPr>
              <a:t>Research-quality Web Searching</a:t>
            </a:r>
            <a:endParaRPr b="0" lang="en-US" sz="24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50112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Unicode MS"/>
              </a:rPr>
              <a:t>COURSE PAGES:</a:t>
            </a:r>
            <a:endParaRPr b="0" lang="en-US" sz="2000" spc="-1" strike="noStrike">
              <a:solidFill>
                <a:srgbClr val="ffcc00"/>
              </a:solidFill>
              <a:latin typeface="Clarendon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ttp://www.lib.berkeley.edu/find/types/websites.html</a:t>
            </a:r>
            <a:endParaRPr b="0" lang="en-US" sz="2000" spc="-1" strike="noStrike">
              <a:solidFill>
                <a:srgbClr val="ffcc00"/>
              </a:solidFill>
              <a:latin typeface="Clarendon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ttp://www.lib.berkeley.edu/TeachingLib/Guides/Internet/FindInfo.html</a:t>
            </a:r>
            <a:endParaRPr b="0" lang="en-US" sz="20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57200" y="1293120"/>
            <a:ext cx="775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Baskerville Semibold"/>
              </a:rPr>
              <a:t>G</a:t>
            </a:r>
            <a:r>
              <a:rPr b="0" lang="en-US" sz="7200" spc="-1" strike="noStrike">
                <a:solidFill>
                  <a:srgbClr val="ff3300"/>
                </a:solidFill>
                <a:latin typeface="Baskerville Semibold"/>
              </a:rPr>
              <a:t>o</a:t>
            </a:r>
            <a:r>
              <a:rPr b="0" lang="en-US" sz="7200" spc="-1" strike="noStrike">
                <a:solidFill>
                  <a:srgbClr val="ffcc00"/>
                </a:solidFill>
                <a:latin typeface="Baskerville Semibold"/>
              </a:rPr>
              <a:t>o</a:t>
            </a:r>
            <a:r>
              <a:rPr b="0" lang="en-US" sz="7200" spc="-1" strike="noStrike">
                <a:solidFill>
                  <a:srgbClr val="0066ff"/>
                </a:solidFill>
                <a:latin typeface="Baskerville Semibold"/>
              </a:rPr>
              <a:t>g</a:t>
            </a:r>
            <a:r>
              <a:rPr b="0" lang="en-US" sz="7200" spc="-1" strike="noStrike">
                <a:solidFill>
                  <a:srgbClr val="3cb43c"/>
                </a:solidFill>
                <a:latin typeface="Baskerville Semibold"/>
              </a:rPr>
              <a:t>l</a:t>
            </a:r>
            <a:r>
              <a:rPr b="0" lang="en-US" sz="7200" spc="-1" strike="noStrike">
                <a:solidFill>
                  <a:srgbClr val="ff3300"/>
                </a:solidFill>
                <a:latin typeface="Baskerville Semibold"/>
              </a:rPr>
              <a:t>e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 and Beyond</a:t>
            </a:r>
            <a:endParaRPr b="0" lang="en-US" sz="6000" spc="-1" strike="noStrike">
              <a:solidFill>
                <a:srgbClr val="ffcc00"/>
              </a:solidFill>
              <a:latin typeface="Clarendon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5457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t’s visit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hydrogen Monoxide Research Division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RITICAL EVALUATION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y Evaluate What You Find on the Web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one can put up a web p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ny pages not upda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quality contr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sites not “peer-reviewed”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 trustworthy than scholarly public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fore you click to view the page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ok at th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RL 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onal page or site ?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~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or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or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use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or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 name appropriate for the content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stricted:   </a:t>
            </a:r>
            <a:r>
              <a:rPr b="0" lang="en-US" sz="1600" spc="-1" strike="noStrike">
                <a:solidFill>
                  <a:srgbClr val="00d600"/>
                </a:solidFill>
                <a:latin typeface="Arial"/>
              </a:rPr>
              <a:t>edu,  gov,  mil,  a few country codes (ca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stricted:</a:t>
            </a:r>
            <a:r>
              <a:rPr b="0" lang="en-US" sz="16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d600"/>
                </a:solidFill>
                <a:latin typeface="Arial"/>
              </a:rPr>
              <a:t>com,  org,  net,  most country codes (us, uk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ublished by an entity that makes sense 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ws from its source? 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ytimes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com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dvice from valid agency?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ih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gov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nimh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ih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gov/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72864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can the perimeter of the p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5684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Can you tell who wrote it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me of page autho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rganization, institution, agency you recognize</a:t>
            </a:r>
            <a:br>
              <a:rPr sz="1800"/>
            </a:br>
            <a:br>
              <a:rPr sz="1900"/>
            </a:b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Credentials for the subject matter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ok for links to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About us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Philosophy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“Background”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“Biography”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Is it current enough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Look for “last updated” date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76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ine the cont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5438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ssibly forged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y not a link to published version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cumented with links or not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the links work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idence of b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 text or sourc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593280"/>
            <a:ext cx="76201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 some detective wor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752480"/>
            <a:ext cx="819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arch the URL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exa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ck on “Site info for … ”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o owns the domain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o links to the sit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at did the site look like in the past?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(Wayback Machin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5360" y="1752480"/>
            <a:ext cx="819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ich blogs link to it?  What do they say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y the URL in Google Blog Search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what links are in Google’s “Similar pages”</a:t>
            </a:r>
            <a:br>
              <a:rPr sz="2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up the page author in Goog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es it all add up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s the page put on the web t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form 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uade 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ll ?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a parody or satire 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it appropriate for your purpo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484920"/>
            <a:ext cx="8001000" cy="82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Try evaluating some sites.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arch a controversial topic in Goo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uclear armagedd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ions dang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stem cells” abor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an the first two pages of resul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isit one or two sit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aluate their quality and reliabi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3:03:14Z</dcterms:created>
  <dc:creator>Library Systems Office</dc:creator>
  <dc:description/>
  <dc:language>en-US</dc:language>
  <cp:lastModifiedBy>Connie White</cp:lastModifiedBy>
  <cp:lastPrinted>2008-01-28T21:25:23Z</cp:lastPrinted>
  <dcterms:modified xsi:type="dcterms:W3CDTF">2009-07-24T22:16:26Z</dcterms:modified>
  <cp:revision>118</cp:revision>
  <dc:subject/>
  <dc:title>PowerPoint Presentation</dc:title>
</cp:coreProperties>
</file>